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EC53DB-41B8-4770-8367-350F1A82E4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B47B3-33A1-4212-A1F4-E97C3D362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72F405-DEA5-4AEF-BE6A-5D7B8F2DFF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238061-9FEC-44CA-8AE4-DB23190A86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C5719-985B-42C3-8497-607590BAF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15515-DE90-4D33-A524-E2DF0D673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35ABC-F5A1-45E7-A81B-BFD59D847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B38A7-B664-4B57-80D4-49F70FEE0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4E7B4-A13D-45E9-8A1E-2FC16FA4A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0B73A-8ECA-440D-A879-42E6B4443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7D7D6-25AF-4E2F-AD7A-2CD1E5E54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C7DDB-1C09-48C6-9056-15F5C2B27F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D98DE-58B2-4729-A429-05025CDD0A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KUGA (PESTIS)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380880" y="3886200"/>
            <a:ext cx="8305920" cy="26668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kutna infektivna fakultativno transmisivna karan­tinska bolest praćena visokim letalitetom. Nekada se javljala u vidu epidemija i pandemija, a danas je endemična u određenim područjima, sa pojavom sporadičnih slučajeva. </a:t>
            </a:r>
            <a:endParaRPr b="0" lang="en-US" sz="3200" spc="-1" strike="noStrike">
              <a:solidFill>
                <a:srgbClr val="000000"/>
              </a:solidFill>
              <a:latin typeface="Times New Roman"/>
            </a:endParaRPr>
          </a:p>
        </p:txBody>
      </p:sp>
      <p:pic>
        <p:nvPicPr>
          <p:cNvPr id="43" name="pacovska%20buva" descr=""/>
          <p:cNvPicPr/>
          <p:nvPr/>
        </p:nvPicPr>
        <p:blipFill>
          <a:blip r:embed="rId1"/>
          <a:stretch/>
        </p:blipFill>
        <p:spPr>
          <a:xfrm>
            <a:off x="1231920" y="380880"/>
            <a:ext cx="2349360" cy="2144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TIOLOGIJA. Uzročnik kuge je Yersinia (Pasteurella) pestis.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eotporan je prema sušenju i dezinfekcionim sredstvima. U sputumu bolesnika održava se do 10 dana, u leševima do 30 dana; u vodi i životnim namirnicama može da opstane do 4 meseca. U organizmu buve uzročnik kuge može da ostane živ preko jedne godine.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ZVOR ZARAZE. Glavni izvor i rezervoari infekcije su divlji glodari, naročito pacovi i miševi, sa kojih se infekcija prenosi na domaće pacove i miševe. Najčešći izvori zaraze za čoveka su pacovi Rattus rattus i Rattus norvegicus. Kod plućnog oblika kuge izvor zaraze je bolestan čovek. Dakle, bolestan čovek i inficirani glodar, kao i inficirana buva dokazani su nosioci uzročnika kuge.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UTEVI PRENOŠENJA. Prenosioci uzročnika kuge su buve, među kojima najčešće pacovske buve (Xenopsylla cheopis, Ceratophylus fasciatus i dr.) dok je od manjeg značaja čovečja buva (Pulex irritans). Kod plućne kuge uzročnik se prenosi respiratorno, tj. vazdušno - kapljičnim putem. </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LAZNA VRATA. Kod bubonske kuge - koža, a kod plućne - alveole pluća. </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SETUIVOST. Opšta i vrlo visoka. Spada u bolesti sa apsolutnom dispozicijom. </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TPORNOST. Preležana bolest ne ostavlja solidan niti trajan imunitet. </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Zato može doći do ponovnog obolevanja istih ljudi. </a:t>
            </a:r>
            <a:endParaRPr b="0" lang="en-US" sz="2400" spc="-1" strike="noStrike">
              <a:solidFill>
                <a:srgbClr val="000000"/>
              </a:solidFill>
              <a:latin typeface="Times New Roman"/>
            </a:endParaRPr>
          </a:p>
          <a:p>
            <a:pPr marL="335880" indent="-3358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KUBACIJA. Različita je kod bubonske i plućne kuge. Kod bubonskog oblika kreće se od 2 - 6 dana, a kod plućnog je kraća: nekoliko sati do 3 -4 dana. </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fontScale="99000"/>
          </a:bodyPr>
          <a:p>
            <a:pPr marL="339480" indent="-3394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LINIČKA SLIKA Kuga se klinički manifestuje u dva osnovna oblika: bubonska i plućna kuga. Kao posledica bilo kog od ovih, može da nastane septična kuga (kužna sepsa). </a:t>
            </a:r>
            <a:r>
              <a:rPr b="1" lang="en-US" sz="2000" spc="-1" strike="noStrike">
                <a:solidFill>
                  <a:srgbClr val="000000"/>
                </a:solidFill>
                <a:latin typeface="Times New Roman"/>
                <a:ea typeface="Times New Roman"/>
              </a:rPr>
              <a:t>Bubonska </a:t>
            </a:r>
            <a:r>
              <a:rPr b="0" lang="en-US" sz="2000" spc="-1" strike="noStrike">
                <a:solidFill>
                  <a:srgbClr val="000000"/>
                </a:solidFill>
                <a:latin typeface="Times New Roman"/>
                <a:ea typeface="Times New Roman"/>
              </a:rPr>
              <a:t>(žlezdana) kuga je najčešći klinički oblik. Bolest počinje naglo. Pored opštih simptoma (temperatura, jeza, drhtavica, malaksalost) javlja se otok limfnih žlezda, obično preponskih (s obzirom da buve najčešće napadaju noge). Otok je crven, a žlezde su tvrde i bolne ("bubo dolens"). To su tzv. primarni buboni. Kasnije se otok javlja na aksilarnim i cervikalnim žlezdama. Kod lakših slučajeva bolesti - pestis minor ­otoci žlezda se povlače i bolest se na ovome završava. Međutim, žlezde često zagnoje, ulceriraju i iz njih se cedi gnojav, sukrvičav sekret. Kod nelečenih slučajeva bubonske kuge letalitet iznosi 25 - 50% i više. </a:t>
            </a:r>
            <a:r>
              <a:rPr b="1" lang="en-US" sz="2000" spc="-1" strike="noStrike">
                <a:solidFill>
                  <a:srgbClr val="000000"/>
                </a:solidFill>
                <a:latin typeface="Times New Roman"/>
                <a:ea typeface="Times New Roman"/>
              </a:rPr>
              <a:t>Plućna </a:t>
            </a:r>
            <a:r>
              <a:rPr b="0" lang="en-US" sz="2000" spc="-1" strike="noStrike">
                <a:solidFill>
                  <a:srgbClr val="000000"/>
                </a:solidFill>
                <a:latin typeface="Times New Roman"/>
                <a:ea typeface="Times New Roman"/>
              </a:rPr>
              <a:t>kuga može biti primarna i sekundama. Primarni oblik nastaje kod respiratorne infekcije, a sekundarni je posledica diseminacije bubonske kuge. Pored opštih simptoma, plućnu kugu karakterišu: bolan kašalj, hemoragični ispljuvak (nekada je boje rde i gust kao kog lobarne pneumonije), cijanoza ("crna smrt"), toksične pojave i smrt. Osnovni simptomi </a:t>
            </a:r>
            <a:r>
              <a:rPr b="1" lang="en-US" sz="2000" spc="-1" strike="noStrike">
                <a:solidFill>
                  <a:srgbClr val="000000"/>
                </a:solidFill>
                <a:latin typeface="Times New Roman"/>
                <a:ea typeface="Times New Roman"/>
              </a:rPr>
              <a:t>kužne </a:t>
            </a:r>
            <a:r>
              <a:rPr b="0" lang="en-US" sz="2000" spc="-1" strike="noStrike">
                <a:solidFill>
                  <a:srgbClr val="000000"/>
                </a:solidFill>
                <a:latin typeface="Times New Roman"/>
                <a:ea typeface="Times New Roman"/>
              </a:rPr>
              <a:t>sepse su: jaka klonulost, visoka temperatura, krvarenje iz nosa, prolivi i komatozno stanje. Kod primarne plućne, kao i kod septičnog oblika kuge, letalitet je 100%. </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ABORATORIJSKA DIJAGNOSTIKA Postavlja se bakteriološkim nalazom bacila kuge u punktatu bubona, gnoj u, krvi· i sputumu (kod plućne kuge). Mikroskopski nalaz uz kliničke i epidemiološke podatke dovoljan je za dijagnozu kuge.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AŠIRENOST. Endemska žarišta kuge poznata su u Aziji, Africi i Južnoj Americi. </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PIDEMIOLOŠKI OBLICI. Kuga se javlja u obliku sporadičnih slučajeva i u obliku epidemija. Sporadičnost je uslovljena ulaskom pojedinaca u prirodna žarišta kuge ili importovanjem iz velikih daljina u sredinu sa visokim stepenom higijenske kulture. Epidemije nastaju obično u vezi sa epizootijama među glodarima, odnosno pacovima.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ZONA U umerenom klimatskom pojasu epidemije bubonske kuge najčešće su u letnjim mesecima, a u toplim krajevima zimi. </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FILAKSA U mere profilakse spadaju: kontrola brodova iz zaraženih područja i njihova dezinsekcija i deratizacija; dezinsekcija </a:t>
            </a:r>
            <a:r>
              <a:rPr b="0" lang="en-US" sz="1800" spc="-1" strike="noStrike">
                <a:solidFill>
                  <a:srgbClr val="000000"/>
                </a:solidFill>
                <a:latin typeface="Arial"/>
                <a:ea typeface="Arial"/>
              </a:rPr>
              <a:t>i </a:t>
            </a:r>
            <a:r>
              <a:rPr b="0" lang="en-US" sz="1800" spc="-1" strike="noStrike">
                <a:solidFill>
                  <a:srgbClr val="000000"/>
                </a:solidFill>
                <a:latin typeface="Arial"/>
                <a:ea typeface="Times New Roman"/>
              </a:rPr>
              <a:t>deratizacija velikih luka, dokova, magacina i drugih zgrada u pristaništima; vakcinacija ugroženih osoba; aktivni nadzor nad endemičnim i potencijalno endemičnim područjima u cilju praćenja gustine populacije pacova i pacovskih buva, ali i neprekidni nadzor i nad ostalim, naročito divljim glodarima i njihovim ektoparazitima u područjima silvatične kuge; zdravstveno - vaspitni rad. </a:t>
            </a:r>
            <a:endParaRPr b="0" lang="en-US" sz="1800" spc="-1" strike="noStrike">
              <a:solidFill>
                <a:srgbClr val="000000"/>
              </a:solidFill>
              <a:latin typeface="Times New Roman"/>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228600"/>
            <a:ext cx="7772400" cy="5867280"/>
          </a:xfrm>
          <a:prstGeom prst="rect">
            <a:avLst/>
          </a:prstGeom>
          <a:noFill/>
          <a:ln w="0">
            <a:noFill/>
          </a:ln>
        </p:spPr>
        <p:txBody>
          <a:bodyPr lIns="90000" rIns="90000" tIns="46800" bIns="46800" anchor="t">
            <a:normAutofit fontScale="96000"/>
          </a:bodyPr>
          <a:p>
            <a:pPr marL="329040" indent="-3290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UZBIJANJE. U slučaju pojave kuge obavezno se preduzimaju sledeće protivepidemijske mere: </a:t>
            </a:r>
            <a:endParaRPr b="0" lang="en-US" sz="1600" spc="-1" strike="noStrike">
              <a:solidFill>
                <a:srgbClr val="000000"/>
              </a:solidFill>
              <a:latin typeface="Times New Roman"/>
            </a:endParaRPr>
          </a:p>
          <a:p>
            <a:pPr marL="329040" indent="-3290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prijavljivanje oboljenja - smrti, ali i sumnje da postoji oboljenje, odmah po saznanju, najbržim putem; </a:t>
            </a:r>
            <a:endParaRPr b="0" lang="en-US" sz="1600" spc="-1" strike="noStrike">
              <a:solidFill>
                <a:srgbClr val="000000"/>
              </a:solidFill>
              <a:latin typeface="Times New Roman"/>
            </a:endParaRPr>
          </a:p>
          <a:p>
            <a:pPr marL="329040" indent="-3290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stroga izolacija u zdravstvenim ustanovama za lečenje zaraznih bolesti (hospitalizacija) obolelih, sumnjivih i osoblja koje ih leči ineguje; </a:t>
            </a:r>
            <a:endParaRPr b="0" lang="en-US" sz="1600" spc="-1" strike="noStrike">
              <a:solidFill>
                <a:srgbClr val="000000"/>
              </a:solidFill>
              <a:latin typeface="Times New Roman"/>
            </a:endParaRPr>
          </a:p>
          <a:p>
            <a:pPr marL="329040" indent="-3290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prevoz bolesnika samo sanitetskim prevoznim sredstvima; </a:t>
            </a:r>
            <a:endParaRPr b="0" lang="en-US" sz="1600" spc="-1" strike="noStrike">
              <a:solidFill>
                <a:srgbClr val="000000"/>
              </a:solidFill>
              <a:latin typeface="Times New Roman"/>
            </a:endParaRPr>
          </a:p>
          <a:p>
            <a:pPr marL="329040" indent="-3290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tekuća dezinfekcija svih lučevina bolesnika (sputum, feces, urin, znoj i dr.) i svih predmeta sa kojima bolesnik dolazi u dodir; </a:t>
            </a:r>
            <a:endParaRPr b="0" lang="en-US" sz="1600" spc="-1" strike="noStrike">
              <a:solidFill>
                <a:srgbClr val="000000"/>
              </a:solidFill>
              <a:latin typeface="Times New Roman"/>
            </a:endParaRPr>
          </a:p>
          <a:p>
            <a:pPr marL="329040" indent="-3290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završna dezinfekcija svih prostorija, predmeta iz okoline bolesnika, rublja i posteljine; </a:t>
            </a:r>
            <a:endParaRPr b="0" lang="en-US" sz="1600" spc="-1" strike="noStrike">
              <a:solidFill>
                <a:srgbClr val="000000"/>
              </a:solidFill>
              <a:latin typeface="Times New Roman"/>
            </a:endParaRPr>
          </a:p>
          <a:p>
            <a:pPr marL="329040" indent="-3290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laboratorijsko ispitivanje uzročnika radi utvrđivanja dijagnoze kako u slučaju pojave, tako i pri sumnji na oboljenje; </a:t>
            </a:r>
            <a:endParaRPr b="0" lang="en-US" sz="1600" spc="-1" strike="noStrike">
              <a:solidFill>
                <a:srgbClr val="000000"/>
              </a:solidFill>
              <a:latin typeface="Times New Roman"/>
            </a:endParaRPr>
          </a:p>
          <a:p>
            <a:pPr marL="329040" indent="-329040" algn="just">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dezinsekcija rublja, odeće i posteljine bolesnika, prostorija u stanu obolelog, u susednim kućama i u stanovima osoba koje su kontaktirale sa bolesnikom; </a:t>
            </a:r>
            <a:endParaRPr b="0" lang="en-US" sz="1600" spc="-1" strike="noStrike">
              <a:solidFill>
                <a:srgbClr val="000000"/>
              </a:solidFill>
              <a:latin typeface="Times New Roman"/>
            </a:endParaRPr>
          </a:p>
          <a:p>
            <a:pPr marL="329040" indent="-3290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deratizacija u naselju i okolini naselja u kome se pojavilo oboljenje; </a:t>
            </a:r>
            <a:endParaRPr b="0" lang="en-US" sz="1600" spc="-1" strike="noStrike">
              <a:solidFill>
                <a:srgbClr val="000000"/>
              </a:solidFill>
              <a:latin typeface="Times New Roman"/>
            </a:endParaRPr>
          </a:p>
          <a:p>
            <a:pPr marL="329040" indent="-3290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karantin u trajanju od 6 dana za sva lica sa kojima je bolesnik dolazio u kontakt 2 - 3 dana pre početka ili tokom bolesti; </a:t>
            </a:r>
            <a:endParaRPr b="0" lang="en-US" sz="1600" spc="-1" strike="noStrike">
              <a:solidFill>
                <a:srgbClr val="000000"/>
              </a:solidFill>
              <a:latin typeface="Times New Roman"/>
            </a:endParaRPr>
          </a:p>
          <a:p>
            <a:pPr marL="329040" indent="-3290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epidemiološko ispitivanje u cilju ranog otkrivanja izvora zaraze; </a:t>
            </a:r>
            <a:endParaRPr b="0" lang="en-US" sz="1600" spc="-1" strike="noStrike">
              <a:solidFill>
                <a:srgbClr val="000000"/>
              </a:solidFill>
              <a:latin typeface="Times New Roman"/>
            </a:endParaRPr>
          </a:p>
          <a:p>
            <a:pPr marL="329040" indent="-3290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ntibiotska profilaksa svih osoba iz kontakta sa bolesnikom (naročito onim od plućne kuge) u trajanju 6 dana; </a:t>
            </a:r>
            <a:endParaRPr b="0" lang="en-US" sz="1600" spc="-1" strike="noStrike">
              <a:solidFill>
                <a:srgbClr val="000000"/>
              </a:solidFill>
              <a:latin typeface="Times New Roman"/>
            </a:endParaRPr>
          </a:p>
          <a:p>
            <a:pPr marL="329040" indent="-3290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lična zaštita osoblja koje neguje bolesnike (zaštitna odeća i obuća, maske, rukavice, obavezna vakcinacija, antibiotska profilaksa i dr.); </a:t>
            </a:r>
            <a:endParaRPr b="0" lang="en-US" sz="1600" spc="-1" strike="noStrike">
              <a:solidFill>
                <a:srgbClr val="000000"/>
              </a:solidFill>
              <a:latin typeface="Times New Roman"/>
            </a:endParaRPr>
          </a:p>
          <a:p>
            <a:pPr marL="329040" indent="-3290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vakcinacija stanovništva u zaraženom naselju pri epidemijskoj pojavi </a:t>
            </a:r>
            <a:endParaRPr b="0" lang="en-US" sz="1600" spc="-1" strike="noStrike">
              <a:solidFill>
                <a:srgbClr val="000000"/>
              </a:solidFill>
              <a:latin typeface="Times New Roman"/>
            </a:endParaRPr>
          </a:p>
          <a:p>
            <a:pPr marL="329040" indent="-3290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kuge.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1T05:29:16Z</dcterms:created>
  <dc:creator>IZJZ</dc:creator>
  <dc:description/>
  <dc:language>en-US</dc:language>
  <cp:lastModifiedBy>IZJZ</cp:lastModifiedBy>
  <dcterms:modified xsi:type="dcterms:W3CDTF">2011-05-11T06:02:24Z</dcterms:modified>
  <cp:revision>2</cp:revision>
  <dc:subject/>
  <dc:title>KUGA (PESTIS) </dc:title>
</cp:coreProperties>
</file>