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47FB5-855A-477A-8002-4E3D153E2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5FADA-9D25-47FC-88D3-7255B2ED6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6491A-BC78-46C9-9036-ADBB83D15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D5403-55AC-458D-8080-47A88BB8D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BC9BB-15F9-4449-A83B-B75CB4868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F408B-74A3-40B9-98E4-6804FA666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3C580-324A-481F-802E-C1393443B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74AD6-BD23-4D54-AB5B-C7A150925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7AD82-14E1-4FC3-BC14-7E44D2323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CE1A9-8F97-4BAD-86E7-3FF534992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A4A64-4CC3-4A2B-8CCC-16D561A5F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E311A-4090-4FE1-B4D8-F3A74C1FD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8A06-7DD0-4387-AFF5-A2E89D9092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Besnilo</a:t>
            </a:r>
            <a:br>
              <a:rPr sz="4400"/>
            </a:br>
            <a:r>
              <a:rPr b="0" lang="sr-Latn-CS" sz="4400" spc="-1" strike="noStrike">
                <a:solidFill>
                  <a:srgbClr val="000000"/>
                </a:solidFill>
                <a:latin typeface="Times New Roman"/>
              </a:rPr>
              <a:t> </a:t>
            </a:r>
            <a:r>
              <a:rPr b="0" lang="en-US" sz="2800" spc="-1" strike="noStrike">
                <a:solidFill>
                  <a:srgbClr val="000000"/>
                </a:solidFill>
                <a:latin typeface="Times New Roman"/>
                <a:ea typeface="Times New Roman"/>
              </a:rPr>
              <a:t>Besnilo je akutno smrtonosno oboljenje mnogih vrsta životinja i čoveka, praćeno teškim poremećajima u funkciji centralnog nervnog sistema</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TIOLOGIJA Uzročnik je fi1trabi1ni virus, koji pokazuje izrazitu neurotropnost i to prema ganglijskim ćelijama nervnog sistema. Slabo je otporan u spoljašnjoj sredini; sušenje ne podnosi, a sunčevi zraci ga odmah uništavaju.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ZVOR ZARAZE. Sve toplokrvne životinje mogu biti izvor infekcij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Za čoveka to su najčešće domaće životinje, u prvom redu psi, rede mačke. Medu divljim životinjama izvor zaraze za čoveka najčešće su lisice, rede vukovi.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228600"/>
            <a:ext cx="77724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UTEVI PRENOŠENJA Direktan kontakt koji se ostvaruje ujedom ili lizanjem od strane bolesne životinj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LAZNA VRATA Koža i sluzokož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SETLJIVOST. Opšt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TPORNOST. Ne postoji.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KUBACIJA Obično iznosi 14 do 90 dana, a može i znatno duže - više meseci, pa i godina. Kod životinja virus se može naći u pljuvački najranije dese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ana pre pojave prvih simptoma bolest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52280" y="228240"/>
            <a:ext cx="8839440" cy="61722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KLINIČKA SLIKA Besni10 ljudi ispoljava se u dva klinička oblika: a) furiozno (pomamno) i b) paralitično (tiho) besnilo. Prvi oblik karakteriše se uznemirenošću koja može preći u razdražljivost, kada bolesnik nasrće na okolinu. Kod paralitičnog oblika nema umemirenQsti, već se od početka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avljaju pareze i paralize što se na kraju završava paralizom centra za disanje. Ovaj oblik traje nešto duže, a svest obolelog očuvana je do kraja. Letalitet je 100%.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BORATORIJSKA DIJAGNOSTIKA S obzirom na jasnu kliničku sliku i podatak o prethodnom ozledivanj u od životinj a, laboratorijska dij agnoza besnila ljudi se ne vrši. U mozgu uginulih ili sumnjivih životinja traže se tzv. negrijeva telašea i vrši biološki opit. Danas je metoda izbora tehnika fluoreseentnih antitela (TFA).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AŠIRENOST. Besnilo je kosmopolitsko oboljenje od koga, prema procenama, umire 30.000 ljudi godišnje. Iskorenjeno je u nekim zemljama (Australija, Velika Bri •••• ja, Isl-".~ Japan, Novi Zel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PIDEMIOLOŠKI OBLICI. Sa epizootološkog stanovišta postoje dva tipa besnila: silvatično i urbano. Kod ljudi bolest se javlja samo sporadično.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ILAKSA Osnovne mere u sprečavanju besnila su veterinarske mere. Imunizacija ljudi protiv besnila vrši se kao preekspoziciona i postekspoziciona. Preekspoziciona vakcinacija obavezna je za lica koja su profesionalno izložena riziku infekcije: laboratorijski radnici, veterinari, lovci, lovočuvari, preparatori. Postekspoziciona zaštita sastoji se u pravilnoj primarnoj obradi rane (dugotrajno ispiranje rastvorom dezinfekcionog sredstva, hirurška obrada) i primeni hiperimunog humanog ili animainog seruma i vakcine. Indikacije za primenu seruma i vakcine zavise od vrste i zdravstvenog stanja životinje koja je nanela ozledu. Imunizacija je obavezna za sva lica ozleđena od besne ili na besnilo sumnjive životinje, lica ozledena od psa ili mačke nepoznatog vlasnika i lica povredena pri radu sa materijalom kontaminiranim virusom besnila. Kod ozleda od naizgled zdravih životinja poznatih vlasnika određuje se desetodnevna prismotra i, ako životinja za to vreme ostane zdrava, ne sprovode se nikakve druge mere, sem obaveštavanja veterinarske služb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ZBIJANJR Obavezna je prijava oboljenja - smrti i hospitalizacija obolelog.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143000" y="485640"/>
            <a:ext cx="7315200" cy="530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0T11:52:03Z</dcterms:created>
  <dc:creator>IZJZ</dc:creator>
  <dc:description/>
  <dc:language>en-US</dc:language>
  <cp:lastModifiedBy>IZJZ</cp:lastModifiedBy>
  <dcterms:modified xsi:type="dcterms:W3CDTF">2011-05-10T11:53:03Z</dcterms:modified>
  <cp:revision>1</cp:revision>
  <dc:subject/>
  <dc:title>Besnilo  Besnilo je akutno smrtonosno oboljenje mnogih vrsta životinja i čoveka, praćeno teškim poremećajima u funkciji centralnog nervnog sistema. </dc:title>
</cp:coreProperties>
</file>