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1B7-9A56-4385-8341-A8385718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767-A62A-4BF9-80F6-252C3E5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BE9-69A1-4697-B527-52F7AF91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A97-0960-4608-A34C-252E2D1C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811-74A8-423E-A56A-5B1E91A8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B401-FDB1-4327-BA39-1616DE4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C8F4-14E6-4F67-9564-4E90DB2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9532-98B7-4126-AF5B-88C2DC58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70E6-1B33-4069-8840-73DAB29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043-F39E-41EF-9046-774F7D1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8C85-A5E3-443D-ACF1-835BBC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01F-1016-4468-98EB-99C6B933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765-F3D1-4C39-8253-1E039F11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EB4-92AE-4F44-8DF2-99958E4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DB07-AE83-4D13-AC2B-FAD289C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C7D3-CC5B-41FA-A280-4D06B150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3074-5DFD-4698-B288-721177A8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3A7-A60E-41D3-A664-D80B90F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5E5-FBCF-43FC-B084-3FD897D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BF0-BBF3-439A-B966-1171299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5B1-0575-4CA5-815B-799DFF7D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46E-05EA-4088-BC6C-2D58313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B5D-E9D6-4AE6-8B27-6B96F21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5E0-8108-4B39-ABD8-CA7CAF3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443-B112-487E-84F7-BB6399B2C5FB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F39-BCC1-495A-B7EB-EFD3439E9AAA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800px-Anopheles_albimanus_mosquit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0" spc="-1" strike="noStrike">
                <a:solidFill>
                  <a:srgbClr val="0000ff"/>
                </a:solidFill>
                <a:latin typeface="Arial"/>
              </a:rPr>
              <a:t>Malarija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440" y="5943600"/>
            <a:ext cx="610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ISKLJUČIVO inficirane ženke komarca iz roda Anophe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Transfuzijom krv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irurškim zahvat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ofeles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2668320" cy="372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2332080" cy="253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943600" y="20574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Times New Roman"/>
              </a:rPr>
              <a:t>A. maculipenni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superpic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 Sacharov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zlike u položaju na podlozi Culexa i Anophele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125" name="800px-Anopheles_albimanus_mosquito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Cule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nophe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lazna vrata: otkriveni delovi ko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setljivost: opš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tpornost: imunitet je nesolidan i kratkotrajan, pa su moguće reinfek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nkuba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ercijana – oko 2 nedel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ropica – oko 10 da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Kvartana – oko 30 dan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Jeza, drhtavica temperatura do 40 stepen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reznojavanje i pad tempera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vakvi simptomi javljaju se (u zavisnosti od tipa malarije) na 48, 72 sata ili svakodnevno (m. Tropika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Bolest traje 10-15 da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stali simptomi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glavobolj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, umor, povraćanje, su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 kašalj, bolovi u mišićima, povećanje jetre, ili čak nervne disfunkcije i gubitak svijesti.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ajnepovoljnije efekte izaziva </a:t>
            </a:r>
            <a:r>
              <a:rPr b="0" i="1" lang="en-GB" sz="2000" spc="-1" strike="noStrike">
                <a:solidFill>
                  <a:srgbClr val="ffffcc"/>
                </a:solidFill>
                <a:latin typeface="Arial"/>
              </a:rPr>
              <a:t>P. falciparu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Laboratorijska dijagnost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Gusta kap i periferni razmaz krvi uzete u vreme napada ili neposredno posle nje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60044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u svetu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še od 40% svjetsk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opulacij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živi u područjima  zahvaćenim malarijom i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mili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oni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ljudi godišnje od nje umir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uglavnom djece ispod 5 godina i trudnic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vak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og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nut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 svetu umire 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dvoje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jece od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ko 90% akutno oboljelih nalazi se u subsaharskoj Afric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 u sve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malarija1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936880" cy="3891240"/>
          </a:xfrm>
          <a:prstGeom prst="rect">
            <a:avLst/>
          </a:prstGeom>
          <a:ln w="0">
            <a:noFill/>
          </a:ln>
        </p:spPr>
      </p:pic>
      <p:pic>
        <p:nvPicPr>
          <p:cNvPr id="140" name="malarija2" descr=""/>
          <p:cNvPicPr/>
          <p:nvPr/>
        </p:nvPicPr>
        <p:blipFill>
          <a:blip r:embed="rId3"/>
          <a:stretch/>
        </p:blipFill>
        <p:spPr>
          <a:xfrm>
            <a:off x="3733920" y="1066680"/>
            <a:ext cx="5105160" cy="389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5122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U Srbiji javljaju se pojedinačni slučajevi importovane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Malarija je iskorenjena (eradicirana) u Srbiji 1965. godin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rofilaksa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ništavanje malaričnih komaraca(insekticidima) i njihovih larvi (isušivanjem močvara i bara, insekticid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Korišćenje repelenata i mehaničkih zaštitnih sredstav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emioprofilaksa antimalaric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Vakcina je u fazi ispitiva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a je akutna ili hronična OBLIGATNO transmisivna endemo-epidemična protozoalna antroponoza čije uzročnike prenose komarci iz roda anofeles. Rasprostranjena je širom svet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Suzbijanje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ijavljivanje oboleli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Laboratorijsko ispitivanje obolelih, sumnjivih i parazitonoš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ezinsekci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49760"/>
            <a:ext cx="2578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914040"/>
            <a:ext cx="820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vivax – uzroi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tercij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falciparum – uzročnik malarije tropik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malaria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kvart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oval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slične tercijan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l%20vivax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190476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plasm%20falciparum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21788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pl%20ovale" descr=""/>
          <p:cNvPicPr/>
          <p:nvPr/>
        </p:nvPicPr>
        <p:blipFill>
          <a:blip r:embed="rId4"/>
          <a:stretch/>
        </p:blipFill>
        <p:spPr>
          <a:xfrm>
            <a:off x="7162920" y="5181480"/>
            <a:ext cx="1371600" cy="1365480"/>
          </a:xfrm>
          <a:prstGeom prst="rect">
            <a:avLst/>
          </a:prstGeom>
          <a:ln w="0">
            <a:noFill/>
          </a:ln>
        </p:spPr>
      </p:pic>
      <p:pic>
        <p:nvPicPr>
          <p:cNvPr id="98" name="Plasmodium_malariae_01" descr=""/>
          <p:cNvPicPr/>
          <p:nvPr/>
        </p:nvPicPr>
        <p:blipFill>
          <a:blip r:embed="rId5"/>
          <a:stretch/>
        </p:blipFill>
        <p:spPr>
          <a:xfrm>
            <a:off x="6781680" y="363204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Uzročnici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lasmodium viva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7920" y="1752480"/>
            <a:ext cx="5000400" cy="5105520"/>
            <a:chOff x="1447920" y="1752480"/>
            <a:chExt cx="5000400" cy="51055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447920" y="1752480"/>
              <a:ext cx="5000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447920" y="1752480"/>
              <a:ext cx="50004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ccff3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falcipau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46260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ova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41400" y="1371600"/>
            <a:ext cx="52228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malaria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49226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Razvojni ciklusi plazmodija u komarcu i čovek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Čovek je jedini izvor zaraze (bolestan čovek ili parazitonoš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sihičke i fizičke traume mogu da provociraju kod kliconoša recidive malar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užina nosilaštva parazit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ercijane – do 3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ropike – do 1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kvartane – od 5-20 godi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18:31Z</dcterms:created>
  <dc:creator>IZJZ</dc:creator>
  <dc:description/>
  <dc:language>en-US</dc:language>
  <cp:lastModifiedBy>IZJZ</cp:lastModifiedBy>
  <dcterms:modified xsi:type="dcterms:W3CDTF">2009-01-14T07:37:29Z</dcterms:modified>
  <cp:revision>5</cp:revision>
  <dc:subject/>
  <dc:title>Malarija</dc:title>
</cp:coreProperties>
</file>