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333-10D7-4ED1-B99F-2206D824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1AA4-46F8-4B32-8134-AE55D3AE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0A5A-67B0-4B70-B67B-4ADECC69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5138-B259-4230-AD96-D9C7F6F5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E0F6-F05C-476E-9B2E-24CDE770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2B5E-4491-441D-A5A9-37ADD828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1CF3-496D-4FB3-9443-75F91029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CCD7-EDD5-4B2C-A50B-E776BE42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8CD8-D6E4-43C6-A66A-E1780FF7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5BE7-0C5C-468E-8D8C-BCE9B7FA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CE40-4FB7-4638-8513-BDD8752B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8223-9C7D-4F49-95FF-8BC87EF1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BB44-D52C-4A9B-A468-C5F6239BA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ULAREMUA (TULAREMlA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3886200"/>
            <a:ext cx="83055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ularemija je akutna febrilna fakultativno transmisivna zooantroponoza koju karakteriše tipično oboljenje žlezda i veliki broj puteva prenošenja uzročnik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5345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TIOLOGIJA. Prouzrokovač j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FrancisseIla tularensi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Dosta je otporan u spoljnoj sredini. U vodi se može da održi od 4 do 9 meseci, na koži uginulih glodara mesec i više dana, a u artropodama i nekoliko godina. OsetIjiv je prema dezinficijensima. Uzročnik sadrži dva antigena: somatični - O i kapsularni - Vi - antig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ZVOR ZARAZE. Veliki broj divljih i domaćih životinja, a pre svega glodari: začevi, tekunice, dabrovi, divlji i domaći pacovi, veverice, miševi i dr. Kod ljudi i životinja još nije dokazano trajno nosi</a:t>
            </a:r>
            <a:r>
              <a:rPr b="1" lang="sr-Latn-CS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štvo uzročnika. Trajno nosilaštvo F.tularensis je dokazano kod krpelja; uzročnik se prenosi transovarijalnim putem sa generacije na generacij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UTEVI PRENOŠENJA. Brojni su putevi prenošenja uzročnika: artropode, kontakt, hrana, voda i vazduh. Uzročnik se ne prenosi direktno sa čoveka na čovek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LAZNA VRATA. Koža</a:t>
            </a:r>
            <a:r>
              <a:rPr b="1" lang="sr-Latn-C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 sluzokoža digestivnog, respiratornog trakta</a:t>
            </a:r>
            <a:r>
              <a:rPr b="1" lang="sr-Latn-C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 ok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SETLJIVOST. Opšta. Ekspozicija igra važnu ulog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TPORNOST. PreIežana bolest ostavlja solidan i dugotrajan imunit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KUBACIJA. Iznosi 1 do 10, prosečno 3 dan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LINIČKA SLIKA. Bolest počinje naglo sa glavoboljom, zimom, groznicom i visokom temperaturom, a sve to baca bolesnika u krevet. Dan-dva posle početka bolesti na ulaznom mestu uzročnika na koži javlja se papula koja brzo prelazi u egzulcerirajuću pustulu i ulkus iz koga izlazi bezbojan eksudat. Može biti više ovakvih lezija. Istovremeno dolazi do otoka regionalnih limfnih žlezda. Obično petog dana bolesti javljaju se tifozno stanje i znaci atipične pneumonije. Na osnovu patoloških, kliničkih i epidemioloških karakteristika postoji 7 oblika tularemije: glandularni, ulcero-glandularni, okulo-bulbarni, anginozno-glandularni, abdominalni, plućni i generaliwvani obli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BORATORIJSKA DIJAGNOSTIKA. Vrši se i</a:t>
            </a:r>
            <a:r>
              <a:rPr b="1" lang="sr-Latn-CS" sz="2400" spc="-1" strike="noStrike">
                <a:solidFill>
                  <a:srgbClr val="3333cc"/>
                </a:solidFill>
                <a:latin typeface="Times New Roman"/>
              </a:rPr>
              <a:t>zo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cija uzročnik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d seroloških reakcija upotrebljava se reakcija aglutinacije. Ova reakcija postaje pozitivna tek krajem druge nedelje bolesti, a održava se više godina. Alergijska intrakutana proba, koja se vrši antigenom tularin, je specifična metoda za dijagnostiku bolesti i postaje pozitivna već trećeg do petog dana bolesti, a ostaje pozitivna više meseci ili više godina. Ove dve poslednje metode služe i za retrogradno utvrđivanje oboljenja ljudi i za pronalaženje ranijih žariš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AŠIRENOST. Tularemija je bolest severne zemljine polulop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gistruje se u Aziji, Severnoj Americi i Evropi. Humani slučajevi tularemije registruju se u Jugoslaviji od 1946. god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PIDEMIOLOŠKI OBLICI. Javlja se u obliku sporadičnih slučajeva i u obliku manjih, najčešće kućnih epidemij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ZONA Sezonska pojava je vezana za aktivnost artropoda, određene se</a:t>
            </a:r>
            <a:r>
              <a:rPr b="1" lang="sr-Latn-CS" sz="2000" spc="-1" strike="noStrike">
                <a:solidFill>
                  <a:srgbClr val="3333cc"/>
                </a:solidFill>
                <a:latin typeface="Times New Roman"/>
              </a:rPr>
              <a:t>zo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ske radove, zanimanja i se</a:t>
            </a:r>
            <a:r>
              <a:rPr b="1" lang="sr-Latn-CS" sz="2000" spc="-1" strike="noStrike">
                <a:solidFill>
                  <a:srgbClr val="3333cc"/>
                </a:solidFill>
                <a:latin typeface="Times New Roman"/>
              </a:rPr>
              <a:t>zo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sku aktivnost glodara, ali se bolest javlja tokom cele godi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FILAKSA U mnogim zemljama sveta profilaktičke mere se sprovode samo po epidemiološkim indikacijama. Najradikalnija mera u borbi protiv tularemije bila bi likvidacija prirodnih žarišta. Međutim, uspešno izvođenje ove mere je vrlo teško. U profilaksi tularemije u današnje vreme veoma važno mesto zauzima vakcinoprofilaksa. Upotrebljava se živa vakcina. Aplicirase u skarificiranu kožu ramena. Vakcinalni imunitet traje 5 godin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ZBIJANJE. U slučaju pojave oboljenja obavezno se sprovode sledeće mere: prijavljivanje oboljenja-smrti; i</a:t>
            </a:r>
            <a:r>
              <a:rPr b="1" lang="sr-Latn-CS" sz="2000" spc="-1" strike="noStrike">
                <a:solidFill>
                  <a:srgbClr val="3333cc"/>
                </a:solidFill>
                <a:latin typeface="Times New Roman"/>
              </a:rPr>
              <a:t>zo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cija i to hospitalizacija bolesnika; obavezno laboratorijsko ispitivanje; dezinfekcija njegovih lučevina iz ulceracija, limfnih žlezda, očiju i sputuma; sprovođenje epidemiološkog ispitivanja u cilju iznalaženja izvora zaraze; deratizacija, deakarizacija i dezinsekcija. Vakcinacija ugroženih osoba živom vakcinom. Masovna hemioprofilaksa u slučaju većih epidemija. U krajevima gde se pojavi tularemija zabranjuje se lov na zečev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05:39:47Z</dcterms:created>
  <dc:creator>IZJZ</dc:creator>
  <dc:description/>
  <dc:language>en-US</dc:language>
  <cp:lastModifiedBy>IZJZ</cp:lastModifiedBy>
  <dcterms:modified xsi:type="dcterms:W3CDTF">2011-05-11T05:49:38Z</dcterms:modified>
  <cp:revision>3</cp:revision>
  <dc:subject/>
  <dc:title>TULAREMUA (TULAREMlA) </dc:title>
</cp:coreProperties>
</file>