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D74-98A1-410B-BDD9-B9984F85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439-423B-429C-B7E9-D315A2D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F34-4B30-4440-BCFF-4C7CB361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FCE-9EA1-4DAD-B72E-136DC9C6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AC3-D3E5-48AD-A621-C8F0415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CBE-812F-4351-B91E-C3C92865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60B-2912-4028-96C7-20C9AEC6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92B-9C41-4AE3-8335-2BC38B93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9F1-2356-4FA6-A4CC-E3AB9AB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E31-EDD9-4134-8228-74C3C87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A30-1013-4682-BEEA-AE56EC3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79C-49A1-46D7-90FD-3EB9A943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E99B-32AB-4865-B517-2ADFE20C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pidemiologija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sl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 zar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borav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. To se na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dogadja izletnicima, turistima, planinarima, ali transmisivne bolesti mogu biti i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rofesionalne bolesti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mara, lovaca, lov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vara, zemljoradnika i st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a, tj. svih onih koji rade na otvorenom prostoru,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 transmisivnih bolesti. Ne treba zaboraviti da 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nekih transmisivnih zaraznih bolesti i njihovi vektori mogu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i u gradskoj sredini (u parkovima, na travnjacima), ka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sa Lajmskom bol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ji j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borelija Burdorgferi, a vektor krpel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retanje uzr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, rezervoara ili vektora m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se odvijati i u pravcu ljudskih naseobina.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eć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hranu divl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otinje se mogu veoma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i ljudskim naseljima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seoskim), ali i ako se pre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amn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(ili u nedostatku glavnog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a) i vektori  u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m broju mogu da se pojave u naseljima gd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ljudi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se prirodno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z “divlje prirode”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urbanim prostor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acovska buva parazitira na pacovima. Kod pojave kuge medju pacovima, s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buve se i same inficiraju. Medju obolelim pacovima nastupa pravi pomor, a buve se sele na nove, j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e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e pacove kojima prenose opaku bolest. Kada se populacija pacova toliko smanji (epizootija kuge medju pacovima), buve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ove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, pa tako prelaze i 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izazivaj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oboljenja i kod njih (bubonska kuga). Kasnije, medju ljudima, kuga s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ri aerogeno, dovo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do p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g i sept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g oblika bol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ajčešći vektori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77724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rakteristike epidemija transmisivnih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sve epidemije taransmisivnih bolesti s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sezonskog karakte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vezane su za naj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aktivnost vekt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roj obolelih, ob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 nije veliki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, mada se mogu javiti i 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epidemije (malarije, kuge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te groznice,pegavca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pidemije se ob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 javljaj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prirodnim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nsmisivnih boles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ojedine epidemije transmisivnih bolesti javljaj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vanrednim situacija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epidemija pegavog tifusa u ratnim uslovi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jmasovnije epidemije se javljaju u tropskim oblas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filarijaza, tripanozomijaza, malarij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epidemijama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ligatno transmisivnih bolesti oboljenje se ne prenosi sa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 na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madutim kod fakultativno transmisivnih, pored vektora kao putevi pren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mogu biti i kontakt, voda, vazduh, zemlj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li hr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kon zav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tka epidemija, bolest se u zahv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om podr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demizi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Roman Y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jzn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ije mere usmerene prema vektorima bolesti s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dezinsekcij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u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anje mo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ara i ba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potreba repelenata (sredstava koja odbijaju insek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ransmisivne (vektorske)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pojedinih zaraznih bolesti se sa obolelog na osetljivu  osobu prenose  i po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organizama - vektora, koji su iz roda zglavkara (arthropoda), a medju njima su naj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i iz klase insekata. Na ovaj 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 prenose bolesti od kojih boluju 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otinje i ljudi (antropozoonoze), ali i bolesti od kojih boluje sam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k (antroponoze).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ovih bolesti su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mikroorganizmi: bakterije, rikecije, virusi ili protoz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eke bolesti koje se prenose vektorima mogu se prenositi i na druge 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: dodirom, hranom, p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om (tularemija) i one se nazivaju </a:t>
            </a:r>
            <a:r>
              <a:rPr b="1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fakultativnim 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(transmisivnim) bolestima. Za razliku od njih, one koje se prenose iskl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 vektorima (malarija, pegavi tifus) nazivaju se </a:t>
            </a:r>
            <a:r>
              <a:rPr b="1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ligatnim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bolest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loga vektora u pren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u zaraz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: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iološk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ehan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) Biol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uloga vektora je mnogo komplikovanija. Ona podrazumeva da s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neko vreme za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u organizmu vektora, da u njemu sazreva ili da se razmn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, a mehaniza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n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 (il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) 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dvoj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okulacijim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: prilikom uboda, kroz rilicu vektora izaziv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 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olesti se inokulira u makroorganiza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ntaminacijom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: vektor sekretuje ili ekskretuj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fecesom)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a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organizam prodire kroz 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astala nakon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enj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) Meha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kada vektor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i (na krilima, 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cama, telu)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sa obolele na zdravu osobu ili zagadjuj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predmete ili hranu. Tako, na primer,  ob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dom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M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sca domestic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vome telu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crevnih zaraznih bolesti, da zagadi hranu koja, kasnije, postaje put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ovde se radi o kombinaciji dva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a puta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lsk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S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moxis calcitrans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n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antraksa, ali direktno na k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osetljive osobe. Na ovaj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 u tropima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adi 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banida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prenose 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n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u neke bolesti izazvane tripanozom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ko se vidi, ovde se ne radi o pravim transmisivnim bolestima (jer je uloga vektor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to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), tj vektor kontaktom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sa obolele na zdravu osob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vektorskih (transmisivnih) bolesti ulazno mesto infekcije je nez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a 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(delovi 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ostupni ubodima zglavkara), a kod fakultativnih transmisivnih bolesti to 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i sluzo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respiratornog (kuga) ili digestivnog trakta (Q groznica, tularemij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Glavni i sporedni domać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mikroorganizama koji u svom razvoju imaju polnu i bespolnu fazu, a parazitiraju i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u i u vektoru, 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glavni dom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je onaj u kome parazit dost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svoju polnu zrel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malarije, komarac je glav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(polna faza razvoja se odigrava u komarcu), a sporedni 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filarijaze situacija je obrnut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je glavni, a komarac spored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Rezervoari agen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ektor se zarazi 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neke krupni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(koja predstavlja stalni rezervoar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 il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kod malarije ili pegavog tifus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djutim, i sami vektori mogu biti rezervoari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, kada se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vektoru prenosi transovarijalno i na njegovo potomstvo, ka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kod nekih krpelja i grin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Biocenoza i prirodna žariš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prirodnim uslovima sitni glodari predstavljaju rezervoar mnogih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transmisivnih bolesti. Na njima parazitira veliki broj artropoda hra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se njihovom krvlju, koje prelaz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na drug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ubodom ili kontaminacijo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i njih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,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ovezani razl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im lancima ishran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opstaju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mnog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ske vrste (tzv.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iocenoz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i o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s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transmisivnih zaraza u svojim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“prirodnim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” (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geografski delovi prostora u kojima se stalno od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a neka transmisivna zaraz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se 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zarazi bora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,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, jer postaje deo lanca ishrane, tj.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 stupa u biocenozu koj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, vektor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sta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ni prostori u kojima se od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prirodn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azivaju se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iotop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to su, uglavnom,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geografska podr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a u jednoj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i ili cela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. Manja mesta (rupe, jazbine, p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) u kojim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sitni glodari (rezervoari zaraze) nazivaju se “elementar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50:18Z</dcterms:created>
  <dc:creator>IZJZ</dc:creator>
  <dc:description/>
  <dc:language>en-US</dc:language>
  <cp:lastModifiedBy>IZJZ</cp:lastModifiedBy>
  <dcterms:modified xsi:type="dcterms:W3CDTF">2011-05-11T10:05:03Z</dcterms:modified>
  <cp:revision>3</cp:revision>
  <dc:subject/>
  <dc:title>Epidemiologija transmisivnbih bolesti</dc:title>
</cp:coreProperties>
</file>