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881-566B-4360-A9E8-20F15BAE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AE1-400F-411C-9FC7-88F84B37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3D0-F68A-4769-AFDC-FEB94E43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CBE-5036-45B1-B7A0-29F36CCB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02B-EF43-44FF-83E8-0A1E557A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A14-04A6-4CAC-9A62-5606DDB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230-753D-4E23-BC62-DA8E6FF6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B6B-815D-42ED-8455-57E06C07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95D-014E-4115-9DD8-ABA26434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421-DA7F-419B-80C8-94AD31D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ED4-D621-42E8-8926-4ED94D1A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065-12D8-46FC-92BA-FBCD019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04B7-D752-47C7-AAB5-27A216DEA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UTA GROZNIC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EBRIS FLAVA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580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uta groznica je teška akutna transmisivna hemoragična virusna groznica čije uzročnike prenosi posebna vrsta komarca; bolest je ograničena na tropske predel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fri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Amerike i svrstana u grupu karantinskih bolest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JA Prouzrokovač pripada B grupi ARBO virusa, porodici F1aviviridae, flavivirusima koje prenose komarci. Postoje dva soja, američki i afrički. Međutim, izgleda da su ova dva soja po svojim biološkim osobinama identična. Virus žute groznice ima pantropično dejstvo, a prvenstveno je neurotropan i viscerotro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R ZARAZE. Kod gradskog tipa infekcije izvor je bolestan čovek, a kod šumskog tipa divlje životinje, najčešće majmuni. Virus se nalazi u perifernoj krvi inficiranog čoveka poslednji dan inkubacije i još tri do četiri dana tokom bole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EVI PRENOŠENJA Prenosioci su ženke komaraca Aedes aegypti i drugi. Zarazu prenose ubodom. ženke postaju zarazne dve nedelje posle sisanja inficirane krvi. Jednom inficirana, ženka komarca ostaje zarazna celog života. Nije dokazano transovarijalno prenošenje viru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ZNA VRATA Kož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ETLJIVOST. Opš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PORNOST. Preležana bolest ostavlja solidan i trajan imunitet. INKUBACIJA Iznosi 3 - 6 dana, prosečno 4 dana. Za karantin se uzima maksimalna inkubacija od 6 d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. Bolest počinje naglo sa groznicom i visokom temperaturom koja se penje i do 4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glavoboljom i bolovima u krstima. Lakši oblici traju 3 - 4 dana. Temperatura opada, bolovi prestaju i bolesnik ozdravi. U težim slučajevima bolest ima bifazični tok. Posle prvog napada nastaje kratkotrajna afebrilna pauza od nekoliko sati do dva dana, koja deli bolest na dve faze. U prvoj fazi dominira viremija, a u drugoj toksemija koja oštećuje organe. Druga faza bolesti nastaje, dakle, posle afebrilne pauze i počinje ponovnim porastom temperature i pojavom krvarenja sluzokoža nosa, usta, pluća, creva i kože. Bolesnik povraća, a povraćane mase su crne boje zbog primesa krvi, otuda "vomito negro". Istovremeno se javlja i žutica kao posledica toksičnog delovanja virusa na tkivo jetre. Bifazni oblici bolesti su obično vrlo teški i imaju fatalan završetak desetog do dvanaestog dana bolesti. U dece je bolest blaža i smrtnost manja. U endemskim krajevima česte su inaparentne infekci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JSKA DIJAGNOSTIKA. Od laboratorijskih metoda koriste se izolacija virusa, test neutralizacije, reakcija vezivanja komplementa i inhibicija hemaglutinaci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IRENOST. Javlja se u tropskim i subtropskim predelima Afrike i Amerike čija granica doseže na severu 42° severne i na jugu 40° južne šir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ŠKI OBLICI. Gradski i prašumski oblik. Gradski oblik se javlja u naseljenim mestima u kojima komarac prenosi uzročnika sa čoveka na čoveka. Prašumski oblik se javlja u prašumama Srednje Amerike i Centralne Afrike u divljoj prirodi. Uzročnika prašumskog oblika prenose šumski komarci sa majmuna na majmuna, a čovek slučajno upada u taj lanac infekcije. U divljoj prirodi žuta groznica perzistira kao epizootija. I jedan i drugi oblik javljaju se po pravilu u obliku epidem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ZONA. U tropskim predelima se javlja preko cele godine, a u ~ubtropima u toku le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AKSA. Borba protiv komaraca Aedes-a; vakcinacija osoba koje odlaze ili se nalaze u endemskim žarištima ove bolesti; karantin za osobe koje dolaze iz endemskih žarišta, a nisu vakcinisane i karantin za divlje životinje koje se uvoze iz endemskih žarišta (majmuni i dr.). Karantin za nevakcinisane osobe iznosi 6 dana, a za majmune 8 d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ZBIJANJE. Obavezna prijava oboljenja - smrti najbržim putem (karantinska bolest); obavezna izolacija, laboratorijsko ispitivanje i hospitalizacija; nevakcinisane kontakte vakcinisati, a vakcinisane revakcinisati; epidemiološko ispitivanje i borba protiv komaraca vrste Ae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23:58Z</dcterms:created>
  <dc:creator>IZJZ</dc:creator>
  <dc:description/>
  <dc:language>en-US</dc:language>
  <cp:lastModifiedBy>IZJZ</cp:lastModifiedBy>
  <dcterms:modified xsi:type="dcterms:W3CDTF">2011-05-11T05:24:50Z</dcterms:modified>
  <cp:revision>1</cp:revision>
  <dc:subject/>
  <dc:title>ŽUTA GROZNICA  (FEBRIS FLAVA)  </dc:title>
</cp:coreProperties>
</file>