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41E-9CF1-4543-86D6-A41FB239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494-9394-4A22-B824-99CC2D3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855-BAC2-4581-9CFF-09D9EFB2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FAE-0234-4513-B23A-80CDC219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149D-94E3-4A4A-AE58-5FBCACD5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C8C3-A8B0-4F13-A5A2-6CF86227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433-C01E-426F-A051-E171B5D1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988-9D03-42DD-BEFC-F70DADEB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A9F-82F6-4F67-9DA0-91CAA6A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0670-2175-4B85-BCC7-4D3BE4D0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09E8-F541-4324-94E9-D06A521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E49-33FF-4200-9593-06CF102A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4D66-D1DF-4F63-A77B-583AD23B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45AE-D194-495D-8B3A-CA5387E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238E-1119-4237-8A80-09D66A9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23E0-C8A5-494E-B88C-58193EC6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293E-EA06-4F94-9F95-B5B60DBB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F1B-861E-41AC-B7A6-395DE722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808-9464-4DE3-B4BA-C7103A5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C9D-1096-4479-AA0A-F7BD67B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290-9CF2-41CE-A8CF-7B37F2A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893-FE73-447B-B2DE-8C539DE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355-5CDC-425D-9D86-0509952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927-03E6-432E-9BFE-E344834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7572-7CE6-48B5-B50A-5B3CDCFD27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4AA-B533-49D0-97BB-8629EF66D7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VIRUSNE HEMORAGIČNE GROZN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2716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Suzbijan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javlj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spitalizacija i leč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v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pidemiološko ispit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boratorijska dijagnos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rantin (14 d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rusne hemoragične groznice pretežno su prirodno-žarišne zarazne bolesti, kojima je zajednička kakrakteristika pojava hemoragičnog sindroma u akutnoj fazi obolje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Etiologi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zročnici su virusi, a najčešće iz grupe ARBO virusa, a mnogi još uvek nisu pozna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na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asa, Argentinska, Bolivijska i Venecuelan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nya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Hantanvirus – HG sa bubrežnim sindromo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irovisrus – Krimsko-Kongo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hlebovirus: Rift Valley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o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Ebola virus – Ebol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rburg virus – Marburš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vi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irus denge – Den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Virus žute groznice – Žuta groz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irus omske HG – Om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jasanur virus –Kjasanur šum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Izvor zara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ne divlje životinje, pre svega glod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ovek (Lasa, Ebola, Marburš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zročnici bolesti nalaze se u krvi, mokraći, pljuvačci, spermi i drugim telesnim tečno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Putevi prenošen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i (komarci i krpelji; žuti groznicu prenosi komarac Aedes Aegip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akti sa životinjama i njihovim sekretima i ekskretima (HGB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akt sa bolesnicima i njihovim telesnim tečnostima (Ebola, Lassa,Marburška bol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Ulazna vra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koža i sluzokož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setljivos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opšt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tpornos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Kod nekih bolesti iz ove grupe postoji imunitet koji nije dovoljno poznat; žuta groznica daje doživotan imunitet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Inkubacij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od 3-14, a po nekad i do 25 dan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Dijagnoz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izolacija virusa i serološke reakcij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isoka temper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lavobo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vrać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akulo-papuloz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etehije po koži i sluzoko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azličita učestalo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okalizacija i stepen hemorag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štećenja drugih organa: srca, CNSa, bubreg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krvarenja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810240" cy="2624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Raširen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vljaju se svuda u svetu u većem ili manjem broju, endemski ili epidemijs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 Srbiji (VHGBS): KiM, Fruška g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Denga" descr=""/>
          <p:cNvPicPr/>
          <p:nvPr/>
        </p:nvPicPr>
        <p:blipFill>
          <a:blip r:embed="rId2"/>
          <a:stretch/>
        </p:blipFill>
        <p:spPr>
          <a:xfrm>
            <a:off x="228600" y="377208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9" name="lasa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2280" cy="255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a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yellow_fever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2962080" cy="2425680"/>
          </a:xfrm>
          <a:prstGeom prst="rect">
            <a:avLst/>
          </a:prstGeom>
          <a:ln w="0">
            <a:noFill/>
          </a:ln>
        </p:spPr>
      </p:pic>
      <p:pic>
        <p:nvPicPr>
          <p:cNvPr id="102" name="ebola%2023" descr=""/>
          <p:cNvPicPr/>
          <p:nvPr/>
        </p:nvPicPr>
        <p:blipFill>
          <a:blip r:embed="rId5"/>
          <a:stretch/>
        </p:blipFill>
        <p:spPr>
          <a:xfrm>
            <a:off x="6019920" y="228600"/>
            <a:ext cx="2817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343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Eb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Profilak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akcinacija (Žuta groznica, Krimska i Rift Valley H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specifične m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ečavanje kontakta sa divljim životinjama (glodarima) i insekt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ništavanje insekata i gl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ečavanje kontakta namirnicai vode sa sekretima i ekskretima gl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igijenska dispozicija otpadnih ma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potreba ličnih zaštitnih sredst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8:22:41Z</dcterms:created>
  <dc:creator>IZJZ</dc:creator>
  <dc:description/>
  <dc:language>en-US</dc:language>
  <cp:lastModifiedBy>IZJZ</cp:lastModifiedBy>
  <dcterms:modified xsi:type="dcterms:W3CDTF">2009-01-12T07:19:30Z</dcterms:modified>
  <cp:revision>3</cp:revision>
  <dc:subject/>
  <dc:title>VIRUSNE HEMORAGIČNE GROZN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