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5E8C4-304C-44C3-9D8A-61832A9AD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78C47-6C18-4D93-BF4D-497408339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75BD9-E3B3-4015-93B8-0A6F4B388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14C1D-0D9B-43F0-9265-C85413E49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7E387-9055-4D9B-A04D-17AA2AC4A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EF7A9-B08B-4250-B96A-B2EC480C6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421FC-1AB4-44AE-82DF-703A5930A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A55F0-DCED-4336-B167-9E24F66C5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5B00B-C675-4137-A973-43CAED5E2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A5166-5984-464B-A952-6C7370B6C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440C8-6127-4AB0-8BC4-5B42627F4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17769-6B07-4215-9777-6D213128D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82469-0AE2-43E2-88E5-2022DB8EA5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PEGAVAC </a:t>
            </a:r>
            <a:br>
              <a:rPr sz="4400"/>
            </a:br>
            <a:r>
              <a:rPr b="1" lang="en-US" sz="4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(TYPHUS EXANTHEMATICUS)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04560" y="3885840"/>
            <a:ext cx="830556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Klasični ili epidemijski pegavac je akutna transmisivna rikecijalna infektivna (ranije karantinska) bolest i jedna od najpoznatijih ratnih zaraza u istoriji čovečanstva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304920" y="533160"/>
            <a:ext cx="861048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just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TIOLOGIJA Uzročnik je Rickettsia prowazeki. Neotporna je u spoljnoj sredini. Lako je inaktivišu sva dezinfekciona sredstva. Na sobnoj temperaturi gine za nekoliko časova, a pod povoljnim uslovima u izmetu vaši ostaje u životu više meseci. Sa R.mooseri ima jedan zajednički grupni (solubilni-S) antige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 algn="just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IZVOR ZARAZE. Čovek oboleo od pegavca ili Bril-Zinser-ove bolesti. Rickettsia prowezeki se nalazi u krvi čoveka pri kraju inkubacije, za vreme febrilnog stadijuma i nekoliko dana po padu temperature. Po ozdravljenju u nekih osoba rikecije ostaju izgleda doživotno skrivene negde u retikuloendotelijalnom sistemu i iz njega izlaze u krvotok prilikom poremećaja imunobiološke ravnoteže. Tako nastaje recidiv pegavc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685800" y="45684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PUTEVI PRENOŠENJA U prirodnim uslovima samo inficirana vaš ­-Pediculus humanus corpori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ULAZNA VRATA Koža, a izuzetno sluzokoža respiratornih organa i konjuktive (laboratorijske infekcije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OSETLJIVOST. Opšta za sve uzraste i za oba pol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OTPORNOST. Preležana bolest ostavlja solidan, ali ne i doživotni imunitet. Moguće su reinfekcije u oko 5% slučajev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INKUBACIJA Kreće se od 5 do 20 dana, a prosečna je 12 dan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52280" y="304560"/>
            <a:ext cx="86868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KLINIČKA SLIKA. Bolest prolazi kroz tri stadijuma. Prvi stadijum ili prodromalni karakteriše se opštim infektivnim simptomima, gripoznim sindromom, lice je zažareno (caput rubrum), temperatura iz dana u dan raste do 40°C. Ovaj stadij um traje 3 do 5 dana i neprimetno prelazi u drugi, egzantematični stadijum sa pojavom makulozne ospe prvo na pregibnim delovima. Ospa može da bude i petehijaina, pa posle nekoliko dana cela koža je izgleda mramora. Istovremeno dolazi do pojave tifoznog stanja, dezorijentacije u vremenu i prostoru sa halucinacijama. Ovaj stadijum traje 7 do 15 dana i jako iscrpljuje bolesnika. Stadij um rekonvalescencije se karakteriše poboljšanjem opšteg stanja i smirivanjem svih simptoma i traje 2 do 3 nedelj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Klinički tok bolesti može biti različite težine; bolest obično ima teži tok kod odraslih osoba nego kod dece. Mogu da se jave i komplikacije u vidu sekundarne gangrene, pneumonije, miokardita i d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380520" y="380520"/>
            <a:ext cx="80773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LABORATORUSKADUAGNOSTIKA Najčešće se koriste serološki testovi: klasični test je Weil-Felixova reakcija aglutinacije (orijentaciono), reakcija aglutinacije sa rikecijama, reakcija fiksacije komplementa sa rikecijalnim antigenom i test neutralizacije. Antitela se javljaju već krajem prve nedelje bolesti, u trećoj nedelji su najviša antitela za Weil-Felix-ovu reakciju, a za reakciju fiksacije komplementa anti tela su prisutna više desetina godin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RAšIRENOST. Javlja se u hladnim i umerenim klimatskim područjima na zemaljskoj kugli. Nekada je bio rasprostranjen u mnogim zemljama Evrope, Azije, Afrike i Amerike. U toku zadnjih godina je iščezao iz mnogih zemalja sveta, a ostao samo tamo gde stanovništvo živi pod lošim uslovima i gde je još uvek prisutna velika vašljivost. U Jugoslaviji se pegavac 1971. godine zadnji put registruje.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just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PIDEMIOLOŠKI OBLICI. U redovnim prilikama u endemskim zemljama pegavac se javlja sporadično. Rede se javlja u vidu manjih, rodački povezanih epidemija. U vanrednim prilikama (godine gladi, ratovi i sl.) pegavac kao izrazita bolest vezana za standard, odnosno pad lične higijene i poremećaj u ishrani stanovništva, naglo zahvata veliki broj osoba i ima veliki potencijal života. Za nastajanje epidemije pegavca potrebno je da vašljivost tela u populaciji bude veća od 5%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SEZONA Javlja se u toku cele godine sa tipičnim povećanjem broja obolelih u toku zime i proleća u hladnim i umerenim klimatskim područjima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PROFILAKSA U profilaksi pegavca osnovne su četiri mere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1.  lična profilaksa - lična higijena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2.podizanje zdravstvene kulture stanovništva naročito u zabačenim naseljima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3.  masovna primena insekticida, odnosno depedikulacija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4.  imunoprofilaksa - vakcinacija protiv pegavca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just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Ova poslednja mera primenjuje se samo u vanrednim prilikama. Poznate su Weigl-ova, Castanedina, Coxova i Foxova vakcina. Najviše je u upotrebi Coxova vakcina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SUZBIJANJE. Od protivepidemijskih mera primenjuju se sledeće: - obavezna prijava i pri sumnji na oboljenje od pegavca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- obavezna izolacija i hospitalizacija obolelih i sumnjivih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- obavezna depedikulacija bolesnika, ukućana i okoline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- epidemiološko ispitivanje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- obavezno laboratorijska ispitivanje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- kontrola aktivnog žarišta sve do njegove potpune likvidacije; i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- kontrola likvidiranog žarišta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1T05:33:34Z</dcterms:created>
  <dc:creator>IZJZ</dc:creator>
  <dc:description/>
  <dc:language>en-US</dc:language>
  <cp:lastModifiedBy>IZJZ</cp:lastModifiedBy>
  <dcterms:modified xsi:type="dcterms:W3CDTF">2011-05-11T06:00:27Z</dcterms:modified>
  <cp:revision>2</cp:revision>
  <dc:subject/>
  <dc:title>PEGAVAC  (TYPHUS EXANTHEMATICUS)  </dc:title>
</cp:coreProperties>
</file>